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7D94-57EE-46F4-8CE5-4419C3F42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07F6-70CA-4431-93F1-908A222B0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43E3-919B-4915-A078-10F10F7DB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Старост и пол, са демографског, али и општег друштвеног аспекта, представљају основно и најважније обележје сваке популациј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Структура становништва по старости и полу формира се у дужем периоду, под директним утицајем рађања, смртности и обима миграционих кретања становниш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A006-7463-4644-B602-0998EF417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7A3E-D44C-4255-8D1B-C8F538681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5A0F-C121-41BA-89BF-B4D7876D2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FA37-604C-4953-ADBA-AD2ADEA45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DEE4-7EF2-476B-86B0-529B64D0D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A327-F951-4F86-9004-2AC00C7FF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2C3A-F5AE-47C1-B7A1-47AD4959A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72F1-55CF-42EC-A77B-4EFE0E9BF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Демографска статистика</a:t>
            </a: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 се бави квантитативном анализом стања и кретања становништва. Стање становништва се односи на број и састав (структуру) становништва према различитим обележји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Популациона статистика или статистика становништва (проучава број, размештај и структурална обележја становниш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Витална статистика  или статистика природног кретања (региструје рађање,умирање, склапање брака, развод бра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Миграциона статистика ( региструје унутрашње и спољашње миграције земље, укључујући усељења и исељењ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CB27-055D-453E-B7E3-5934D35FC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F3FC-C167-4254-98A8-5F834DF9D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38F5-125D-44E6-AD86-A4B6BCF35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376A-F8D3-41DB-820C-849E52BAD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B27F-EE67-4320-BF6D-1DDDB3D8C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FEEC-F79B-4FC5-828F-22CE52C33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371A-28E2-456B-BC56-45E4840FC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9563-1F12-48C6-922A-85F8983D9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E1FD-A4B5-4AE5-BE45-573AF54CE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ништво и његове карактеристике се не сматрају директним здравственим индикатором, али се користе као деноминатор за израчунавање различитих показатеља здравственог стањ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952C-6098-4D30-BB6A-DA8646046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09CC-B89C-4A57-8057-26CFDB44A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7046-88E6-4FDA-87FB-F839136B5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CDE3-0EC0-4094-BF07-BEA1A34D2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E19F-9872-4BAD-AEF2-3E446DDA5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E819-FE67-4EB7-8E52-BE42E18E4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E324-2D40-4F6D-B502-A39065C2E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ништво и његове карактеристике се не сматрају директним здравственим индикатором, али се користе као деноминатор за израчунавање различитих показатеља здравственог стањ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EABA-E645-45A2-8241-9083AA91E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122C-B035-43D6-B342-545376F21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7F89-F8A8-452E-99C6-BBB799550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9FC4-5996-4411-8F03-569AD709B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9D42-5573-4050-8D62-4230E4564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2314-F40E-40DB-B4FC-B73EEDEB5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46B7-93C4-4024-886F-D9B02ADBF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0798-AD48-4511-9E50-A3203290B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1A76-BC24-4B99-AD2D-0BC759BD0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1FE4-1DDB-43C0-8CCC-A91D65771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1A67-AD23-458E-9909-0DC220BFC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E296-2493-49A1-AB0D-EEE6AC1DA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D9C5-4871-4EAA-BF7B-C4C52A5FA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F7E4-79DB-499F-AA0A-F2C30C62C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554-286D-44E9-A3FA-9A011875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231-0F56-4A1C-BAB0-657AC6CB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69C09-2CFE-49F2-AF5C-FB947A7E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3813C-8025-462C-8BE4-6F398B4F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195A5-750E-403F-AECC-1332D631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4C3A2-D3FD-4F3C-AFC0-85D69068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CBD84-253C-4320-A6C8-058E0FB1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B1E88-2FC1-458A-BEF9-31E05D3C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B0C1C-A457-4220-966D-699E80B6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F3F46-3AC4-4ECD-808F-8E6617A8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4382B-F956-40CC-9EB9-99C218FA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972B7-691C-46A9-B41A-B109001C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275-957D-43D5-8FA9-40650EBE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AAC75-A888-4239-BF3D-DA047C92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D1381-D16F-4E3C-9906-CC423D3F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9CE73-7827-4EE8-BB34-E51771C2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C24E6-11E8-47B0-B774-39652EAA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A7C55-0483-49D4-A48D-2129F241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52812-9B89-4FB6-8F45-2B7DAA00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9FD44-334C-45C4-8148-6BD3C7A8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6197E-23F3-4CF2-8F1B-B534EF68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EA8B4-0706-43EE-8513-EF6000D2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9EFCE-1AAE-4A77-A6D2-6943E811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829-2A33-4BC4-B203-1B562405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A1FFB-3FDF-46E9-8EB8-756AC42B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56B96-F97B-4741-97D3-32A4A25D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FE37E-1B9C-489E-B922-1DEA4571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CF3DC-3C5A-412B-BA12-04207E64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920DF-EB86-4937-ACEB-E5A74A0D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089F4-A803-4873-BE29-9CF53D9A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D0403-EE95-48F4-A103-23840E22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93FE1-1C95-40C5-AE0E-52119C73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8BA7C-D7A7-416E-8914-DAB09987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8185F-988E-4D8D-A06A-39C4530B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5CCA-AE91-4C40-AE0E-B4751FA1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295C3-D46D-4AFE-AE04-2A88E4AF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CD879-46EB-4427-9363-A0E05822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A0C3F-73C8-48E3-911A-46BE9381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3CBF8-2518-42CE-A8FF-038D3C47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B4EB5-FD77-49E2-B076-F734E80A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6C9D5-A9CF-4ECD-A3DC-35DBE333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B838D-6A69-4167-9D7C-E6D16898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ADCA2-4E80-4231-8C17-17772647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1A498-61AF-4FAB-AE0C-396E729E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10C14-DC22-4B0F-B8F2-4DD128DB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9847-214A-4DD0-93E2-F6BB1638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81076-C0A4-4558-A844-5DF19C0A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81750-16A6-42BB-8341-FB47AE55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C9782-5A20-4CFE-9D1C-7AE11378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951C1-7F42-44A7-9DB4-002B6933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E5721-F765-4B3D-B675-0153595C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E1526-E4C7-4D8D-9BB0-F36D3DE1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DAEDA-C60E-4C33-8DB5-73A08897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33E79-558B-4B37-B64A-E08C97A9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F1349-66D2-4E58-B8A6-9B8EFC81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94A65-096B-414A-97F7-BC1192E6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3A19-45A0-4F23-94E7-83987ECE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785F1-AE16-490B-B200-98FE0D7A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C4F59-B8DE-41E4-9950-5AD46AC0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FABD0-ED4C-4EC6-9AA6-9D296AB1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5BCEF-420E-445A-AED0-E6C03221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9FBD8-28A9-4EAD-AA63-CDF002AF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99167-C345-47FF-B5F0-071468A4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40F1A-1929-4871-81E8-04E2A946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D95CEA-FF4A-4CDC-A8A2-59014961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3606F-2F5A-4BDC-8016-C7BC12AA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3404D-F6B0-4C73-8D21-9DE5D17A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0444-89E4-4B24-93EE-2B397DA1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FEEB4-FBF3-47D9-84C7-0C0D3C1B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CCF7B-F3CD-4791-9D2D-5E708214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324B1-0D1C-413C-BC87-8EBD647A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432D6-729D-48B5-A3C6-9042B793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9F914-8600-42C5-9114-1FE74E0E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BACED-9E47-41FD-948F-AA85ECF4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5D01A-78D2-4F32-8899-081974D9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91DC8-4E73-4291-836B-28013088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FE2A2-C2AA-4125-AB54-583BDE50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2C672-0ADC-4141-B1E0-C9EECE42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C614-9558-4265-A0C2-F263A1A5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7AAA9-CAF8-4966-BC76-A64C79CA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6075FE-A8A4-4B95-A817-404192A2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4BA61-A010-41D8-91C5-B67C528E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623BC-7B52-4827-AC2B-EAC9FF6A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52E0D3-1649-4AFF-A25F-5C38A6F7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C1018-F726-4B30-94ED-1AB8EEB7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6CD69E-E5FB-4CEE-BF36-49729E31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37A4C2-679D-4652-BFE1-A07C3804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E2D7A-1605-492A-A596-0157DEE9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A91F1-BAFD-4FAC-B2E0-EDF4D611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7D09-8FBE-48FD-ABD6-ABDA7906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BB87F-BB97-4AAA-9676-53485AE7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A4672-7C24-43FD-8E86-08C9F008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4A1DE-FFAF-43C7-A502-33E3C848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CAA060-15EF-498C-BD5D-D4D100AE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7B7526-AFC9-444C-AF8A-937CBDFD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3F578-2C07-4C8F-A00F-D94FA906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707C1-72A5-459D-AADB-D07ADCAA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E6B82-FA54-46BE-862B-B0C7C1AA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F153BC-77DF-4632-9A4D-6EA5D358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C9BB9-4016-4DAF-8C84-319C6131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F4A6-EF84-4DBF-A50F-7E983DB1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D97D31-5AD8-4DF1-B584-BE4E48DF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14F03-6042-42FB-935C-D1C8FF30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9E7B17-7056-47E4-A6B3-EC84C4D3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8093CE-B553-4042-AB3B-471A48C2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ECBF4-E33F-43B1-A2E6-56514DD5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CF9C27-7EA8-4A58-AAF3-E5A25CDE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96DCA-5161-4240-9DF7-619753E9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F9E0A-040F-46A2-98CC-9BF0A35B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AF01F-ACD6-4217-950B-D236E63B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D9BC2B-8DCB-469A-A2FC-371DD274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8ED-F861-45B8-9AD7-49FC9895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A03A-8003-45DC-ACCE-227B183D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5D7CDB-1E6D-4521-8FED-3CC1A97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23F69-58CE-4EE9-9CA3-60E89A01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95A33B-FA18-4A9E-BA2D-8BD68F00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D88EED-B705-4D95-BF84-35DAEC68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D1ACB-25B1-4A88-819C-A91C4210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0DA9-F41E-4BAA-8B44-AD73D89D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92B7-B7C8-4CFC-80EB-02246CD1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4316-6245-4CDE-B102-9BBEDE2F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6A25-CD3C-472A-A1F5-C235B5CA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FD09-3A29-405F-8E0B-95F683C8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8E575-AE6B-401E-9252-D1BF902E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7B3C-8E27-4A6A-A82E-6232A483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29484-1CED-44F8-B7D1-8FD6328C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21B88-F176-4978-81DD-55DEE860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DFF-B4F1-4A67-9A6D-F15D7603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7E2D-7044-4882-B8F6-1F81D3C9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8E0B-EA0D-4FDA-9216-24059FFF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29D10-CF53-47D9-92C4-0C6DFD26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08DF-630D-41B9-8394-3CE8B231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BE60-2E2D-4963-A308-AA7FC303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3D981-F31B-4B3E-B42A-1FD07554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49720-4C22-421C-A59F-7C097759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226F-D854-45E9-9E96-2E2CF779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F435D-DEB8-4E6A-898B-A84C9E49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D26FE-3E13-4D4A-83FD-68290FD9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E9F-6094-439C-A4C6-A1250325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11951-A47C-4488-9D98-95D95514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D154B-104C-4545-993E-F872DA26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26B9C-90D0-43FC-8CD7-E6C219A6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A14CD-30EF-47EE-B2AD-C076370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BD750-4AFA-4863-B601-2F98F840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E962C-FE29-4DEC-9B2D-56BFBB2C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D0950-AE95-402D-8DD7-1C3580DC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625AB-BB80-4D30-8D51-6D277E84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DEB42-8E3A-4A3D-9FA8-82939E5F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C657E-1C87-4D32-86E4-1B59D888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517-A6D8-4CA9-813C-3D52DB2F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2E16A-5CA0-436C-800C-633D27DE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93F26-1FEC-4814-B7CF-8450A955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7B20E-EC49-45FC-B051-715A819A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18EF7-F155-4799-9E3E-C4730475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F7B7E-A09D-4F12-ABB4-A85F6431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5EDC6-F473-4DBE-A5D9-6013CF8C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451F9-94F1-49A4-BB48-5537EF9C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5312-9A9B-440D-88BC-F1DB4752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312CB-632C-45C2-A3B2-3626C159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9E643-A898-4A7B-9A2B-9B0B4A32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2F4-CD04-4765-A0CC-5822D674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AED76-CE19-45A1-9B1C-2EAF90AD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7B71F-66A0-44AA-BCCE-108AC9BA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C55DB-88B6-4F3E-8E7D-F9AAB9F8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584E2-814A-485F-A103-DBD591BD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4ABD2-9DE5-4C96-B59D-77828587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F8641-21F9-44D9-A04E-0FFA1BE8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9F29A-D74F-4D9D-ADBE-B1CFEC99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0129D-56F0-4A24-A97E-31CF9059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8D002-B996-4932-88F1-99245F46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A5B82-D53A-4250-B995-BA497AD6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948-7EE8-4EF0-BAAB-78A05686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D773B-098B-409B-89E2-8CF5CB8D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0F386-CCA9-4FC4-A9F7-40709256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66AEA-2D1C-4B2F-8231-68946852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56D97-5DD3-4187-AFB6-1367393D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CE445-89AB-4CE0-997A-658B8E0B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0F883-AC47-41A7-B5B7-0A4C3E61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614F0-A2F7-4F0A-80DA-4DF5C971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70082-30D5-4364-8B8D-4CCBDF80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82DDC-5B3C-4269-8A29-5853D648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8AB92-9396-44AD-9206-D96DF10E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925-2F07-49D4-940B-F92853BB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EBF30-A2EE-4309-B9B9-BD884B67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79346-227A-4C6A-BDB0-5F8E77E3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66D64-02B4-4652-8E1B-D14B732E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57A34-DFE7-4412-98D5-9958DA7A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E39EE-9D8C-493B-A348-EC841020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030D4-B7F5-41A6-8845-1CE687E2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180FF-A537-47C6-A92F-D9116CFE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48309-C10B-4DAB-B0B6-7E449E8F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7E389-AABB-43D3-825F-B15FC897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515ED-AF3D-4AAA-A5BC-B44B32E9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DCA-DA51-47DF-83D6-9F98687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CD935-4B9B-4195-A83B-B65AC11C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0B36C-7C78-4901-BDE9-B423C981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71751-24F5-46C0-85CB-55037A98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1E601-5B97-41F9-86FE-E21B3CFC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55612-C447-4438-B02B-6363063B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7E0D2-B3B2-4D30-B858-533785E7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BF385-1215-4C32-9E9C-4B85DF85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59047-A6F5-44B5-B495-192852B1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A8746-DA58-417D-A630-6A4E3090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0ADB6-4847-4BF1-9BE1-FA77C1AC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7D7E-1E37-4DB9-806B-FA281353C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D879-2693-40F3-AA06-744F58F03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7787-8774-4A21-88B5-50EE892BC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A77C-016D-4B2B-9A14-64D68A334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3855-B8B0-4AD5-ABB1-64E82B450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CAAE-37DE-4A61-98EC-A8D8CC85F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DB81-5AD7-4768-9DCB-785419963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66F5-4362-452A-A65F-0669D56E6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EFC6-A2CB-40E4-B3D7-E51E3C3EC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F664-FD31-4482-BD7B-519415C055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53EC-7B71-4383-894F-C751553FF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27F9-33BA-467E-AB60-B5652F10C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881C-813A-41D9-8D0C-A4C07A178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1851-833F-4023-8EBE-DDDD63F47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6909-7FBA-4891-A472-153B95A10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2BB3-CF47-4D46-8529-CED9D49FF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CDB4-1F46-469D-9D2F-F588D51D7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r.wikipedia.org/wiki/&#1057;&#1090;&#1072;&#1085;&#1086;&#1074;&#1085;&#1080;&#1096;&#1090;&#1074;&#1086;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124000" y="1294920"/>
            <a:ext cx="663912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Verdana"/>
              </a:rPr>
              <a:t>СТАТИСТИКА СТАНОВНИШТВА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8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834920" y="691920"/>
            <a:ext cx="70102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СТАТИСТИКА СТАЊА СТАНОВНИШТВА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СТРУКТУРЕ СТАНОВНИШТВ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BAC6-4C9E-41F3-8C88-106E6DB4EC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РУКТУРЕ СТАНОВНИШ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ДЕМОГРАФС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Л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РОС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ЕКОНОМСК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рема занимањ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тусу на ТР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елатности, запосленост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л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ОСТАЛЕ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рема образовањ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брачном стањ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рбано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стало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834920" y="119664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ДЕМОГРАФСКЕ СТРУКТУРЕ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284720" y="270828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ТАРО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9CE3-E256-42BC-AA06-1A5A2C7FFD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Л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787040" y="1628640"/>
            <a:ext cx="7140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ЛНА СТРУКТУРА СТАНОВНИШТВ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дставља квантитативни однос мушког и женског (или обрнуто) становништва у укупном становништв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КАЗАТЕЉ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ОЕФИЦИЈЕН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оп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M</a:t>
            </a:r>
            <a:r>
              <a:rPr b="1" lang="sr-RS" sz="1800" spc="-1" strike="noStrike">
                <a:solidFill>
                  <a:srgbClr val="0070c0"/>
                </a:solidFill>
                <a:latin typeface="Verdana"/>
              </a:rPr>
              <a:t>АСКУЛИНИТЕТ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днос мушког и женског становништв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OE</a:t>
            </a: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ФИЦИЈЕН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(stopa) </a:t>
            </a:r>
            <a:r>
              <a:rPr b="1" lang="sr-RS" sz="1800" spc="-1" strike="noStrike">
                <a:solidFill>
                  <a:srgbClr val="ff00ff"/>
                </a:solidFill>
                <a:latin typeface="Verdana"/>
              </a:rPr>
              <a:t>ФЕМИНИТЕТА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днос женског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ушког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новништв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8"/>
              <p:cNvSpPr txBox="1"/>
              <p:nvPr/>
            </p:nvSpPr>
            <p:spPr>
              <a:xfrm>
                <a:off x="4427640" y="4019400"/>
                <a:ext cx="13683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9"/>
              <p:cNvSpPr txBox="1"/>
              <p:nvPr/>
            </p:nvSpPr>
            <p:spPr>
              <a:xfrm>
                <a:off x="4500720" y="5827680"/>
                <a:ext cx="1223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 advTm="72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4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FFBA-1FF1-4CA6-AB54-50F42856EB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Л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TextBox 7"/>
          <p:cNvSpPr/>
          <p:nvPr/>
        </p:nvSpPr>
        <p:spPr>
          <a:xfrm>
            <a:off x="1762200" y="4680000"/>
            <a:ext cx="6481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рема попису из 2011. женско становништво је бројније, 51,3% наспрам 48, 7%. (</a:t>
            </a: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стопа маскулинитета 94,6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Коефицијент маскулинитета мањи од 100 говори да на датој територији има мање мушкараца него же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0" name="Picture 2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5325840" cy="266400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"/>
          <p:cNvSpPr/>
          <p:nvPr/>
        </p:nvSpPr>
        <p:spPr>
          <a:xfrm>
            <a:off x="1689120" y="1203480"/>
            <a:ext cx="662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опа маскулинитета становништва Србије 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Л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FA30-C8A8-4E1B-906B-D244492F8B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1998720" y="1268280"/>
            <a:ext cx="6624720" cy="3527640"/>
          </a:xfrm>
          <a:prstGeom prst="rect">
            <a:avLst/>
          </a:prstGeom>
          <a:ln w="0">
            <a:noFill/>
          </a:ln>
        </p:spPr>
      </p:pic>
    </p:spTree>
  </p:cSld>
  <p:transition advTm="3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РОС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рост, основно биолошко обележје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росна структура је резултат груписања становништва по годинама или старосним група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РОСНИ ИНТЕРВА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19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ЛАДО СТАНОВНИШТВ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-39 M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ЛАЂ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РЕДОВЕЧ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0-59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РИЈИ СРЕДОВЕЧ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60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РО СТАНОВНИШТВ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Slide Number Placeholder 2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6D34-3FBB-4156-938F-89E5B80D8D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Функционални старосни контингенти који с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најчешће користе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онтингент предшколске деце (од 0 до 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онтингент деце у основном образовању (од 7 до 14)- користи се за анализу испуњавања школске обавезе, млађи и старији (од 7 до 10 и од 11 до 1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адни контингент (М 15-64; Ж 15-5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Женски фертилни контингент (Ж 15-4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анализу брачног стања становништва (становништво изнад 15 годин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анализу образовног нивоа становништва (становништво изнад 10 годин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438F-D0F2-497C-AA96-71B02AAA18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53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Slide Number Placeholder 7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1871-E64D-4A9C-BFE0-5CCC75E97D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692360" y="1484280"/>
            <a:ext cx="6912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ПРОСЕЧНА СТАРОСТ СТАНОВНИШТВА 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(просек старости становништва на дан пописа) - 30 год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ОЧЕКИВАНО ТРАЈАЊЕ ЖИВОТА 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(просечна старост коју ће новорођени доживети – очекивана вредност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ИНДЕКС СТАРЕЊА 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редставља однос између становништва старог 65 и више година и становништва млађег од 19 год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- ГРАНИЧНА ВРЕДНОСТ ЈЕ 4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Verdana"/>
              </a:rPr>
              <a:t>УЧЕШЋЕ особа старијих од 65 година у укупном становништв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до 4%- младо становниш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4,1-7%- зрело становниш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7,1-10%- старо становниш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32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реко 10%- веома старо становниш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росечна старост становника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 1948-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Жене су у просеку старе 43,5 година, а мушкарци 40,9 годи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639D-AA3C-408C-BCE2-D252FFF577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4968720" cy="2736720"/>
          </a:xfrm>
          <a:prstGeom prst="rect">
            <a:avLst/>
          </a:prstGeom>
          <a:ln w="0">
            <a:noFill/>
          </a:ln>
        </p:spPr>
      </p:pic>
    </p:spTree>
  </p:cSld>
  <p:transition advTm="1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sr-RS" sz="2200" spc="-1" strike="noStrike">
                <a:solidFill>
                  <a:srgbClr val="258b7a"/>
                </a:solidFill>
                <a:latin typeface="Verdana"/>
              </a:rPr>
              <a:t>ДЕМОГРАФСКА СТАТИСТИКА</a:t>
            </a:r>
            <a:br>
              <a:rPr sz="2200"/>
            </a:br>
            <a:r>
              <a:rPr b="1" lang="sr-RS" sz="2200" spc="-1" strike="noStrike">
                <a:solidFill>
                  <a:srgbClr val="258b7a"/>
                </a:solidFill>
                <a:latin typeface="Verdana"/>
              </a:rPr>
              <a:t>ПОДЕЛА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4032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ДЕМОГРАФИЈА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émos -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род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phé -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писивати) ј</a:t>
            </a:r>
            <a:r>
              <a:rPr b="0" lang="sr-Latn-RS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ука о </a:t>
            </a:r>
            <a:r>
              <a:rPr b="0" lang="sr-R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становништв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ДЕМОГРАФСКА СТАТИСТИ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вантитативном анализом стања и кретања становништв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258b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СТАЊА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ПУЛАЦИО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258b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ИТАЛНА СТАТИСТИ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РОДН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ТИСТИКА МИГРАЦИЈ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ЕХАНИЧК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4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692360" y="1341000"/>
            <a:ext cx="7200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чекивано трајање живота становништва,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рбија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 1960-20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C3E0-2D9D-4CC5-B453-AC96120724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2" name="Picture 2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6624720" cy="34560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3" descr=""/>
          <p:cNvPicPr/>
          <p:nvPr/>
        </p:nvPicPr>
        <p:blipFill>
          <a:blip r:embed="rId2"/>
          <a:stretch/>
        </p:blipFill>
        <p:spPr>
          <a:xfrm>
            <a:off x="7740720" y="3224160"/>
            <a:ext cx="419040" cy="2286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4" descr=""/>
          <p:cNvPicPr/>
          <p:nvPr/>
        </p:nvPicPr>
        <p:blipFill>
          <a:blip r:embed="rId3"/>
          <a:stretch/>
        </p:blipFill>
        <p:spPr>
          <a:xfrm>
            <a:off x="7750080" y="2349360"/>
            <a:ext cx="409680" cy="1810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5" descr=""/>
          <p:cNvPicPr/>
          <p:nvPr/>
        </p:nvPicPr>
        <p:blipFill>
          <a:blip r:embed="rId4"/>
          <a:stretch/>
        </p:blipFill>
        <p:spPr>
          <a:xfrm>
            <a:off x="4835520" y="2379600"/>
            <a:ext cx="457200" cy="209520"/>
          </a:xfrm>
          <a:prstGeom prst="rect">
            <a:avLst/>
          </a:prstGeom>
          <a:ln w="0">
            <a:noFill/>
          </a:ln>
        </p:spPr>
      </p:pic>
    </p:spTree>
  </p:cSld>
  <p:transition advTm="37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чекивано трајање живота на рођењу Србији и изабраним европским земљама, 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1C56-8060-4497-8321-01F5290C5F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9" name="Picture 2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6913440" cy="363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52480" y="1268280"/>
            <a:ext cx="70106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новништво старије од 65 година у укупној популациј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2CB5-8473-4FA3-895B-BCEA86FE69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3" name="Picture 2" descr=""/>
          <p:cNvPicPr/>
          <p:nvPr/>
        </p:nvPicPr>
        <p:blipFill>
          <a:blip r:embed="rId1"/>
          <a:stretch/>
        </p:blipFill>
        <p:spPr>
          <a:xfrm>
            <a:off x="1960560" y="2133720"/>
            <a:ext cx="6662880" cy="37447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" descr=""/>
          <p:cNvPicPr/>
          <p:nvPr/>
        </p:nvPicPr>
        <p:blipFill>
          <a:blip r:embed="rId2"/>
          <a:stretch/>
        </p:blipFill>
        <p:spPr>
          <a:xfrm>
            <a:off x="7164360" y="2297160"/>
            <a:ext cx="792360" cy="295200"/>
          </a:xfrm>
          <a:prstGeom prst="rect">
            <a:avLst/>
          </a:prstGeom>
          <a:ln w="0">
            <a:noFill/>
          </a:ln>
        </p:spPr>
      </p:pic>
    </p:spTree>
  </p:cSld>
  <p:transition advTm="29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И 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з просечну старост од 42,2 годин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ндекс старења од 1,22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део старих 65 и више година од 17,4%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рбија је 2011. године међу демографски најстаријим земљама св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3853-5FEA-48D2-9447-A607CD78C2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7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DC80-52A5-4495-85CE-697BCA2812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ЛНО СТАРОСНА ПИРАМИД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ТИПОВИ СТАРОСНИХ ПИРАМИ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ГРЕСИВ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исок наталит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ЦИОНАР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зједначене стопе наталитета и морталите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ГРЕСИВ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исок морталит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object 7"/>
          <p:cNvSpPr/>
          <p:nvPr/>
        </p:nvSpPr>
        <p:spPr>
          <a:xfrm>
            <a:off x="2916360" y="4029120"/>
            <a:ext cx="3744720" cy="2603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object 9"/>
          <p:cNvSpPr/>
          <p:nvPr/>
        </p:nvSpPr>
        <p:spPr>
          <a:xfrm>
            <a:off x="1935000" y="2335320"/>
            <a:ext cx="47880" cy="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object 10"/>
          <p:cNvSpPr/>
          <p:nvPr/>
        </p:nvSpPr>
        <p:spPr>
          <a:xfrm>
            <a:off x="3895560" y="2335320"/>
            <a:ext cx="41400" cy="11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object 11"/>
          <p:cNvSpPr/>
          <p:nvPr/>
        </p:nvSpPr>
        <p:spPr>
          <a:xfrm>
            <a:off x="5651640" y="2335320"/>
            <a:ext cx="47520" cy="11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object 12"/>
          <p:cNvSpPr/>
          <p:nvPr/>
        </p:nvSpPr>
        <p:spPr>
          <a:xfrm>
            <a:off x="7356600" y="2335320"/>
            <a:ext cx="41040" cy="111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object 13"/>
          <p:cNvSpPr/>
          <p:nvPr/>
        </p:nvSpPr>
        <p:spPr>
          <a:xfrm>
            <a:off x="1836720" y="2268360"/>
            <a:ext cx="41400" cy="1051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object 14"/>
          <p:cNvSpPr/>
          <p:nvPr/>
        </p:nvSpPr>
        <p:spPr>
          <a:xfrm>
            <a:off x="3780000" y="2268360"/>
            <a:ext cx="72720" cy="1051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object 15"/>
          <p:cNvSpPr/>
          <p:nvPr/>
        </p:nvSpPr>
        <p:spPr>
          <a:xfrm>
            <a:off x="5541840" y="2268360"/>
            <a:ext cx="73080" cy="1051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object 16"/>
          <p:cNvSpPr/>
          <p:nvPr/>
        </p:nvSpPr>
        <p:spPr>
          <a:xfrm>
            <a:off x="7242120" y="2268360"/>
            <a:ext cx="77760" cy="1051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object 17"/>
          <p:cNvSpPr/>
          <p:nvPr/>
        </p:nvSpPr>
        <p:spPr>
          <a:xfrm>
            <a:off x="1434960" y="2268360"/>
            <a:ext cx="354240" cy="1335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object 18"/>
          <p:cNvSpPr/>
          <p:nvPr/>
        </p:nvSpPr>
        <p:spPr>
          <a:xfrm>
            <a:off x="2019240" y="2268360"/>
            <a:ext cx="603360" cy="133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object 19"/>
          <p:cNvSpPr/>
          <p:nvPr/>
        </p:nvSpPr>
        <p:spPr>
          <a:xfrm>
            <a:off x="3394080" y="2268360"/>
            <a:ext cx="349200" cy="133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object 20"/>
          <p:cNvSpPr/>
          <p:nvPr/>
        </p:nvSpPr>
        <p:spPr>
          <a:xfrm>
            <a:off x="3973680" y="2268360"/>
            <a:ext cx="609480" cy="133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object 21"/>
          <p:cNvSpPr/>
          <p:nvPr/>
        </p:nvSpPr>
        <p:spPr>
          <a:xfrm>
            <a:off x="5156280" y="2268360"/>
            <a:ext cx="349200" cy="13356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object 22"/>
          <p:cNvSpPr/>
          <p:nvPr/>
        </p:nvSpPr>
        <p:spPr>
          <a:xfrm>
            <a:off x="5735520" y="2268360"/>
            <a:ext cx="573120" cy="13356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object 23"/>
          <p:cNvSpPr/>
          <p:nvPr/>
        </p:nvSpPr>
        <p:spPr>
          <a:xfrm>
            <a:off x="6856560" y="2268360"/>
            <a:ext cx="349200" cy="13356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object 24"/>
          <p:cNvSpPr/>
          <p:nvPr/>
        </p:nvSpPr>
        <p:spPr>
          <a:xfrm>
            <a:off x="7434360" y="2268360"/>
            <a:ext cx="645840" cy="13356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object 25"/>
          <p:cNvSpPr/>
          <p:nvPr/>
        </p:nvSpPr>
        <p:spPr>
          <a:xfrm>
            <a:off x="866880" y="2809800"/>
            <a:ext cx="244440" cy="12852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object 26"/>
          <p:cNvSpPr/>
          <p:nvPr/>
        </p:nvSpPr>
        <p:spPr>
          <a:xfrm>
            <a:off x="1434960" y="2124000"/>
            <a:ext cx="7423200" cy="3059280"/>
          </a:xfrm>
          <a:prstGeom prst="rect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object 7"/>
          <p:cNvSpPr/>
          <p:nvPr/>
        </p:nvSpPr>
        <p:spPr>
          <a:xfrm>
            <a:off x="2171880" y="1131840"/>
            <a:ext cx="233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4323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object 5"/>
          <p:cNvSpPr/>
          <p:nvPr/>
        </p:nvSpPr>
        <p:spPr>
          <a:xfrm>
            <a:off x="2171880" y="5300640"/>
            <a:ext cx="1801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273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baseline="1000">
                <a:solidFill>
                  <a:srgbClr val="ff0065"/>
                </a:solidFill>
                <a:latin typeface="Segoe UI"/>
                <a:ea typeface="Segoe UI"/>
              </a:rPr>
              <a:t>Прогресив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object 4"/>
          <p:cNvSpPr/>
          <p:nvPr/>
        </p:nvSpPr>
        <p:spPr>
          <a:xfrm>
            <a:off x="5156280" y="5300640"/>
            <a:ext cx="1874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273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baseline="1000">
                <a:solidFill>
                  <a:srgbClr val="0065ff"/>
                </a:solidFill>
                <a:latin typeface="Segoe UI"/>
                <a:ea typeface="Segoe UI"/>
              </a:rPr>
              <a:t>Стационар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object 3"/>
          <p:cNvSpPr/>
          <p:nvPr/>
        </p:nvSpPr>
        <p:spPr>
          <a:xfrm>
            <a:off x="7242120" y="5300640"/>
            <a:ext cx="16160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273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baseline="1000">
                <a:solidFill>
                  <a:srgbClr val="ff4f4f"/>
                </a:solidFill>
                <a:latin typeface="Segoe UI"/>
                <a:ea typeface="Segoe UI"/>
              </a:rPr>
              <a:t>Регресив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object 2"/>
          <p:cNvSpPr/>
          <p:nvPr/>
        </p:nvSpPr>
        <p:spPr>
          <a:xfrm>
            <a:off x="7651800" y="6039000"/>
            <a:ext cx="198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375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Rectangle 27"/>
          <p:cNvSpPr/>
          <p:nvPr/>
        </p:nvSpPr>
        <p:spPr>
          <a:xfrm>
            <a:off x="1982880" y="404640"/>
            <a:ext cx="592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МОГРАФСКЕ СТРУКТУРЕ: СТАРОСН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РОСНА ПИРАМИ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object 6"/>
          <p:cNvSpPr/>
          <p:nvPr/>
        </p:nvSpPr>
        <p:spPr>
          <a:xfrm>
            <a:off x="3716280" y="785880"/>
            <a:ext cx="221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4323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bject 5"/>
          <p:cNvSpPr/>
          <p:nvPr/>
        </p:nvSpPr>
        <p:spPr>
          <a:xfrm>
            <a:off x="1835280" y="1268280"/>
            <a:ext cx="676908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098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Segoe UI"/>
                <a:ea typeface="Segoe UI"/>
              </a:rPr>
              <a:t>Progresivni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ekspanzivni) tip starosne strukture obilj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va široka baza piramide starosti, odnosno visoki udio djece 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0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inam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n razvoj uz visoke stope prirasta stanovništva koj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izlaze iz visokih stopa nataliteta i opadaju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h stop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ortaliteta. Oblik – </a:t>
            </a:r>
            <a:r>
              <a:rPr b="0" lang="en-US" sz="1900" spc="-1" strike="noStrike">
                <a:solidFill>
                  <a:srgbClr val="cc0000"/>
                </a:solidFill>
                <a:latin typeface="Arial"/>
                <a:ea typeface="Arial"/>
              </a:rPr>
              <a:t>PIRAMID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625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Segoe UI"/>
                <a:ea typeface="Segoe UI"/>
              </a:rPr>
              <a:t>Stacionarni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stagnantni) tip starosne strukture obilj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va u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dnosu na progresivni tip su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vanje baze piramide i umjere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udio djece uz niske, stabilne stope nataliteta i mortaliteta iz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kojih proizlazi nepromijenjen, odnosno nizak ili nulti prirodni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irast. Oblik – 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Č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ELINJA KOŠNIC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625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6500"/>
                </a:solidFill>
                <a:latin typeface="Segoe UI"/>
                <a:ea typeface="Segoe UI"/>
              </a:rPr>
              <a:t>Regresivni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kontraktivni) tip starosne strukture karakterizir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izak udio djece tako da baza piramide postaje u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 od njezinog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redišnjeg dijela, a to ukazuje na nizak, opadaju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 prirodni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irast ili prirodno smanjenje i pokazuje proces depopulacije i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verzije starosne strukture. Stope nataliteta na razini su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>
              <a:lnSpc>
                <a:spcPts val="22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ortaliteta ili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k i n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. Oblik – </a:t>
            </a:r>
            <a:r>
              <a:rPr b="0" lang="en-US" sz="1900" spc="-1" strike="noStrike">
                <a:solidFill>
                  <a:srgbClr val="ff6500"/>
                </a:solidFill>
                <a:latin typeface="Arial"/>
                <a:ea typeface="Arial"/>
              </a:rPr>
              <a:t>URN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11160" algn="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bject 4"/>
          <p:cNvSpPr/>
          <p:nvPr/>
        </p:nvSpPr>
        <p:spPr>
          <a:xfrm>
            <a:off x="1120680" y="1536840"/>
            <a:ext cx="139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061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  <a:ea typeface="Arial"/>
              </a:rPr>
              <a:t>•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bject 3"/>
          <p:cNvSpPr/>
          <p:nvPr/>
        </p:nvSpPr>
        <p:spPr>
          <a:xfrm>
            <a:off x="1120680" y="2965320"/>
            <a:ext cx="13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061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bject 2"/>
          <p:cNvSpPr/>
          <p:nvPr/>
        </p:nvSpPr>
        <p:spPr>
          <a:xfrm>
            <a:off x="1120680" y="4397400"/>
            <a:ext cx="139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061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6500"/>
                </a:solidFill>
                <a:latin typeface="Arial"/>
                <a:ea typeface="Arial"/>
              </a:rPr>
              <a:t>•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1" name="Picture 2" descr=""/>
          <p:cNvPicPr/>
          <p:nvPr/>
        </p:nvPicPr>
        <p:blipFill>
          <a:blip r:embed="rId1"/>
          <a:stretch/>
        </p:blipFill>
        <p:spPr>
          <a:xfrm>
            <a:off x="38160" y="88920"/>
            <a:ext cx="9105840" cy="676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834920" y="119664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ЕКОНОМСКЕ СТРУКТУРЕ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4211640" y="3284640"/>
            <a:ext cx="470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ЗАНИМАЊ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СТАТУСУ НА ТРЖИШТУ РАДА И СЕКТОРУ СВОЈИ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ДЕЛАТНОСТ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763640" y="764640"/>
            <a:ext cx="70106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ОСТАЛЕ СТРУКТУРЕ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1"/>
          <p:cNvSpPr/>
          <p:nvPr/>
        </p:nvSpPr>
        <p:spPr>
          <a:xfrm>
            <a:off x="3780000" y="2637000"/>
            <a:ext cx="518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БРАЧНОМ СТАЊУ (становништво старо 15 и више година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ЖЕЊЕН, УДА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ЕОЖЕЊЕН, НЕУДА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ДОВАЦ, УДОВ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АЗВЕДЕН, РАЗВЕДЕ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АДСКО И СЕОСК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НА СТРУКТ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МА НАЦИОНАЛ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1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1827360" y="1006560"/>
            <a:ext cx="7070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Становништво старо 15 и више година, према законском брачном статусу и полу, 201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Нешто више од половине лица старих 15 и више година живи у брачној заједници (55%). Неожењени/неудати чине 28% следе удовци/удовице са учешћем од 11,6%, док су разведена лица, са учешћем од 4,9%, најмање заступље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3,8% живи у ванбрачној заједниц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F1C4-50FA-46F4-93F6-1993AAED67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8" name="Picture 3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583240" cy="3006720"/>
          </a:xfrm>
          <a:prstGeom prst="rect">
            <a:avLst/>
          </a:prstGeom>
          <a:ln w="0">
            <a:noFill/>
          </a:ln>
        </p:spPr>
      </p:pic>
    </p:spTree>
  </p:cSld>
  <p:transition advTm="2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834920" y="148392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СТАТИСТИКА СТАЊА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1DE1-A16A-4002-B6B2-48DAB6FEF1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ОСТАЛЕ СТРУКТУРЕ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: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ЕМА БРАЧНОМ СТАЊ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634760" y="1052280"/>
            <a:ext cx="7010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КРЕТАЊЕ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КЛАПАЊЕ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АЗВОДИ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КАЗАТЕЉИ КРЕТАЊА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ШТА СТОПА НУПЦИЈАЛИТ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КЛАПАЊЕ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4,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ШТА СТОПА ДИВОРЦИЈАЛИТ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71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АЗВОДИ БРА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2" name="Picture 5" descr=""/>
          <p:cNvPicPr/>
          <p:nvPr/>
        </p:nvPicPr>
        <p:blipFill>
          <a:blip r:embed="rId1"/>
          <a:stretch/>
        </p:blipFill>
        <p:spPr>
          <a:xfrm>
            <a:off x="6993000" y="3357720"/>
            <a:ext cx="1744560" cy="7110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" descr=""/>
          <p:cNvPicPr/>
          <p:nvPr/>
        </p:nvPicPr>
        <p:blipFill>
          <a:blip r:embed="rId2"/>
          <a:stretch/>
        </p:blipFill>
        <p:spPr>
          <a:xfrm>
            <a:off x="7107120" y="4692600"/>
            <a:ext cx="1644840" cy="716040"/>
          </a:xfrm>
          <a:prstGeom prst="rect">
            <a:avLst/>
          </a:prstGeom>
          <a:ln w="0">
            <a:noFill/>
          </a:ln>
        </p:spPr>
      </p:pic>
    </p:spTree>
  </p:cSld>
  <p:transition advTm="41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ОСТАЛЕ СТРУКТУРЕ: ГРАДСКО И СЕОСКО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део градског становништва у укупном становништву РС, 1953-2011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У градским насељима, која чине 3,6% од укупног броја насеља у РС, живи готово 60% становништва Републике Србиј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7138-4DBE-4A83-A712-166F4ABFD6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2050920" y="2206800"/>
            <a:ext cx="6174000" cy="273672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08A3-19B6-4C2F-B975-37E003B9A2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ОСТАЛЕ СТРУКТУРЕ: ОБРАЗОВ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6128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ИСМЕНОСТ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ЧИТА И ПИШ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-2754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Неписменим се сматрају лица стара 10 и више година, без школе и са 1-3 разреда основне школе каја не могу да прочитају и напишу текст у вези са свакодневним живот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-2754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 ПОПИСИМА СЕ ОВО ПИТАЊЕ ПОСТАВЉА САМО ЛИЦИМА СТАРИЈИМ ОД 10 ГОДИ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0840" indent="-330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ЕПЕН ЗАВРШЕНОГ ОБРАЗОВ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-2754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Школска спрема је највиша завршена шк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8920" indent="-2754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ВО ПИТАЊЕ СЕ ПОСТАВЉА САМО ЛИЦИМА СТАРИЈИМ ОД 15 ГОДИ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4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692000" y="162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ОСТАЛЕ СТРУКТУРЕ: ОБРАЗОВ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792080" y="836280"/>
            <a:ext cx="7140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Удео неписмених лица у укупном становништву старом 10 и више година, 1953-201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У Србији према попису из 2011. године 1,96% укупног становништва је неписмено, од тога 82% су зене, а ¾ неписмених лица је старо 60 и више годи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одсетимо се једног од Миленијумских циљева развоја- до 2015. године обезбедити да сви дечаци и девојчице заврше основну школу!!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F27C-9DDD-4B2B-9447-2A782207D5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6053040" cy="2838600"/>
          </a:xfrm>
          <a:prstGeom prst="rect">
            <a:avLst/>
          </a:prstGeom>
          <a:ln w="0">
            <a:noFill/>
          </a:ln>
        </p:spPr>
      </p:pic>
    </p:spTree>
  </p:cSld>
  <p:transition advTm="68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1879560" y="259920"/>
            <a:ext cx="69134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Становништво старо 15 и више година према школској спреми, 1953-20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рема резултатима пописа 2011, готова сваки други становник РС старији од 14 година стекао је средње образовањ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Следе лица са основним обазовањем (20,8%) и вишим и високим образовањем (16,2%). Непотпуно основно образовање има 11% лица поменуте старости док је без школске спреме 2,7% лиц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8428-8041-48EB-B6BA-20530AEB56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7" name="Picture 2" descr=""/>
          <p:cNvPicPr/>
          <p:nvPr/>
        </p:nvPicPr>
        <p:blipFill>
          <a:blip r:embed="rId1"/>
          <a:stretch/>
        </p:blipFill>
        <p:spPr>
          <a:xfrm>
            <a:off x="1677960" y="1197000"/>
            <a:ext cx="7250040" cy="2871720"/>
          </a:xfrm>
          <a:prstGeom prst="rect">
            <a:avLst/>
          </a:prstGeom>
          <a:ln w="0">
            <a:noFill/>
          </a:ln>
        </p:spPr>
      </p:pic>
    </p:spTree>
  </p:cSld>
  <p:transition advTm="25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131D-E07F-4076-89A4-6DF64ED79F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19280" y="304920"/>
            <a:ext cx="714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O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ЛЕ СТРУКТУРЕ: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ЕМА НАЦИОНАЛНОСТ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РУКТУРА СТАНОВНИШТВА ПРЕМА НАЦИОНАЛ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Д ПОСЕБНОГ ЗНАЧАЈА ЗА ВИШЕНАЦИОНАЛНЕ ЗЕМЉ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1931. ПРВИ ПУТ ЈЕ ОБУХВАЋЕНА ПОПИС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4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Slide Number Placeholder 4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CBA1-D684-42D8-B89B-CCC6C871F7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140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O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ЛЕ СТРУКТУРЕ: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 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ЕМА НАЦИОНАЛНОСТИ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РЕПУБЛИКА СРБИЈ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1963800" y="4149720"/>
            <a:ext cx="178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zvor: RZ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6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7431120" cy="452592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1"/>
          <p:cNvSpPr/>
          <p:nvPr/>
        </p:nvSpPr>
        <p:spPr>
          <a:xfrm>
            <a:off x="2055960" y="1300320"/>
            <a:ext cx="62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новништво према националној припад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9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834920" y="148392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СТАТИСТИКА КРЕТАЊА СТАНОВНИШТВА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7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5EE2-D126-45ED-A12A-87CEA95E53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763640" y="14605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258b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58b7a"/>
                </a:solidFill>
                <a:latin typeface="Verdana"/>
              </a:rPr>
              <a:t>КРЕТАЊЕ СТАНОВНИШТВА 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МЕНА УКУПНОГ БРОЈА СТАНОВН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 ОДРЕЂЕНОЈ ТЕРИТОР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ТОКОМ ОДРЕЂЕНОГ ВРЕМЕ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ТИСТИКА КРЕТАЊА ПРЕМА УЗРОЦ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98440" indent="-342720">
              <a:spcBef>
                <a:spcPts val="499"/>
              </a:spcBef>
              <a:buClr>
                <a:srgbClr val="258b7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58b7a"/>
                </a:solidFill>
                <a:latin typeface="Verdana"/>
              </a:rPr>
              <a:t>ПРИРОДНО КРЕТАЊЕ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(рађања и умирањ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98440" indent="-342720">
              <a:spcBef>
                <a:spcPts val="499"/>
              </a:spcBef>
              <a:buClr>
                <a:srgbClr val="258b7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58b7a"/>
                </a:solidFill>
                <a:latin typeface="Verdana"/>
              </a:rPr>
              <a:t>МЕХАНИЧКО КРЕТАЊЕ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(миграције: унутрашње и спољн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6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A330-7FDF-40C1-93E5-F29A159400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РОДНО КРЕТАЊ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ТАЛИТ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ФЕРТИЛИТ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ОРТАЛИТ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РОДНИ ПРИРАШТАЈ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C9D2-B09D-41E5-814E-6BEFCEA590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ДЕФИНИЦИЈ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НОВНИШТВО У СТАТИСТИЧКОМ СМИСЛУ ЈЕ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КУП ЉУДИ КОЈИ СЕ У ОДРЕЂЕНОМ МОМЕНТУ НАЛАЗЕ НА ТАЧНО ОДРЕЂЕНОЈ ТЕРИТОР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AutoShape 6"/>
          <p:cNvSpPr/>
          <p:nvPr/>
        </p:nvSpPr>
        <p:spPr>
          <a:xfrm>
            <a:off x="1810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AutoShape 9"/>
          <p:cNvSpPr/>
          <p:nvPr/>
        </p:nvSpPr>
        <p:spPr>
          <a:xfrm>
            <a:off x="181080" y="-1714680"/>
            <a:ext cx="49910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Picture 10" descr=""/>
          <p:cNvPicPr/>
          <p:nvPr/>
        </p:nvPicPr>
        <p:blipFill>
          <a:blip r:embed="rId1"/>
          <a:stretch/>
        </p:blipFill>
        <p:spPr>
          <a:xfrm>
            <a:off x="5724360" y="3571920"/>
            <a:ext cx="3273480" cy="4664160"/>
          </a:xfrm>
          <a:prstGeom prst="rect">
            <a:avLst/>
          </a:prstGeom>
          <a:ln w="0">
            <a:noFill/>
          </a:ln>
        </p:spPr>
      </p:pic>
    </p:spTree>
  </p:cSld>
  <p:transition advTm="35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CDAF-29EB-49AA-B6A0-07C85E5918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НАТАЛИТЕТ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834920" y="1276200"/>
            <a:ext cx="7010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ПОКАЗАТЕЉИ НАТАЛИТЕТ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269640">
              <a:lnSpc>
                <a:spcPct val="90000"/>
              </a:lnSpc>
              <a:spcBef>
                <a:spcPts val="476"/>
              </a:spcBef>
              <a:buClr>
                <a:srgbClr val="258b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258b7a"/>
                </a:solidFill>
                <a:latin typeface="Verdana"/>
              </a:rPr>
              <a:t>Апсолутни наталите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-215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број рођених у једној годи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04160" indent="-269640">
              <a:lnSpc>
                <a:spcPct val="90000"/>
              </a:lnSpc>
              <a:spcBef>
                <a:spcPts val="476"/>
              </a:spcBef>
              <a:buClr>
                <a:srgbClr val="258b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258b7a"/>
                </a:solidFill>
                <a:latin typeface="Verdana"/>
              </a:rPr>
              <a:t>Стопе наталитета</a:t>
            </a:r>
            <a:r>
              <a:rPr b="0" lang="sr-Latn-CS" sz="1900" spc="-1" strike="noStrike">
                <a:solidFill>
                  <a:srgbClr val="258b7a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-215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Општа стопа укупног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наталитета 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сви рођени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-215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Општа стопа</a:t>
            </a:r>
            <a:r>
              <a:rPr b="0" lang="sr-Latn-R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ефективног</a:t>
            </a:r>
            <a:r>
              <a:rPr b="0" lang="sr-Latn-R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наталитета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живорођени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Стопа наталитета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(2011. godine) -  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9,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r-Latn-CS" sz="1900" spc="-1" strike="noStrike">
                <a:solidFill>
                  <a:srgbClr val="000000"/>
                </a:solidFill>
                <a:latin typeface="Verdana"/>
              </a:rPr>
              <a:t>‰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Ниска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&lt; 14,9 </a:t>
            </a: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промил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Средња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= 15 – 19 </a:t>
            </a: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промил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24000" indent="-3240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Висока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&gt; 20 </a:t>
            </a:r>
            <a:r>
              <a:rPr b="0" lang="sr-RS" sz="1700" spc="-1" strike="noStrike">
                <a:solidFill>
                  <a:srgbClr val="000000"/>
                </a:solidFill>
                <a:latin typeface="Verdana"/>
              </a:rPr>
              <a:t>промил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24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Object 3"/>
              <p:cNvSpPr txBox="1"/>
              <p:nvPr/>
            </p:nvSpPr>
            <p:spPr>
              <a:xfrm>
                <a:off x="6372360" y="2781360"/>
                <a:ext cx="1655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6"/>
              <p:cNvSpPr txBox="1"/>
              <p:nvPr/>
            </p:nvSpPr>
            <p:spPr>
              <a:xfrm>
                <a:off x="6488280" y="3933720"/>
                <a:ext cx="17571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ž</m:t>
                            </m:r>
                          </m:sub>
                        </m:sSub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 advTm="26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7F60-4182-4515-B629-6454EB6DB6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НАТАЛИТ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ФАКТОРИ ВИСИНЕ НАТАЛИТ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БИОЛОШ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ЕКОНОМСКО-СОЦИЈАЛ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СИХОЛОШ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ТАЛИТЕТ СТАНОВНИШТВА ИМА ТЕНДЕНЦИЈУ ПА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3A58-F40B-447C-9C3A-19EE3B58CA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СТОПА ФЕРТИЛИТЕТА (специфични наталитет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962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ОПА ФЕРТИЛИТЕТА, ЕФЕКТИВНА СТОПА ФЕРТИЛИТ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-3207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КАЗАТЕЉ НАТАЛИТЕТА КОЈИ УЗИМА У ОБЗИР ЖЕНСКО СТАНОВНИШТВО У РЕПРОДУКТИВНИМ ГОДИНАМА 15-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-3207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ЗРАЧУНАВАЊ ФЕРТИЛИТ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-3207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 СТАР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-3207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 БРАЧНОМ СТАЊ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-3207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 СОЦИЈАЛНИМ, ОБРАЗОВНИМ, ЕТНИЧКОЈ, ПРОФЕСИОНАЛНОЈ СТРУКТУРИ СТАНОВНИШ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6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-320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 развијеним земљама 50-90 промил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-320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 неразвијеним преко 200 проми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0760" indent="-320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 Србији у 2011. години 40,6 промила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% нижи од довољног за просту репродукцију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3"/>
              <p:cNvSpPr txBox="1"/>
              <p:nvPr/>
            </p:nvSpPr>
            <p:spPr>
              <a:xfrm>
                <a:off x="5148360" y="2708280"/>
                <a:ext cx="204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 advTm="30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7A26-46A1-44BE-91F2-4D7D4158D5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МОРТАЛИТ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ОРТАЛИТЕТ СТАНОВНИШТВА ПРЕДСТАВЉ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БРОЈ СМРТНИХ СЛУЧАЈЕВА КОЈЕ ЈЕ СТАНОВНИШТВО ИМАЛО У ТОКУ ОДРЕЂЕНОГ ВРЕМЕНСКОГ ПЕРИ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НАЈЧЕШЋЕ 1 ГОДИ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ОРТАЛИТЕТ ЗАВИСИ ОД СТАРОСТИ СТАНОВНИШТВА, ПОРЕД ОСТАЛИХ ФАКТ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8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B87A-9C1E-4254-94DB-27248EC0CF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МОРТАЛИТЕТ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ОПА МОРТАЛИТЕТ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58b7a"/>
                </a:solidFill>
                <a:latin typeface="Verdana"/>
              </a:rPr>
              <a:t>Општа стопа морталитета</a:t>
            </a:r>
            <a:r>
              <a:rPr b="0" lang="sr-Latn-CS" sz="2000" spc="-1" strike="noStrike">
                <a:solidFill>
                  <a:srgbClr val="258b7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број умрлих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број становника средином године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пшта стопа морталитета у Срб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201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14,2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1"/>
              <p:cNvSpPr txBox="1"/>
              <p:nvPr/>
            </p:nvSpPr>
            <p:spPr>
              <a:xfrm>
                <a:off x="3780000" y="3213000"/>
                <a:ext cx="2054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738C-A0E4-4D74-BA5C-92E4E450C8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665000" y="90000"/>
            <a:ext cx="701028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МОРТАЛИТ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752480" y="1125000"/>
            <a:ext cx="70106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пшта стопа смртности становништва Србије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 1950-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6" name="Picture 6" descr=""/>
          <p:cNvPicPr/>
          <p:nvPr/>
        </p:nvPicPr>
        <p:blipFill>
          <a:blip r:embed="rId1"/>
          <a:stretch/>
        </p:blipFill>
        <p:spPr>
          <a:xfrm>
            <a:off x="1774800" y="1685880"/>
            <a:ext cx="7128000" cy="309888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7" descr=""/>
          <p:cNvPicPr/>
          <p:nvPr/>
        </p:nvPicPr>
        <p:blipFill>
          <a:blip r:embed="rId2"/>
          <a:stretch/>
        </p:blipFill>
        <p:spPr>
          <a:xfrm>
            <a:off x="2556000" y="5067360"/>
            <a:ext cx="5257800" cy="1574640"/>
          </a:xfrm>
          <a:prstGeom prst="rect">
            <a:avLst/>
          </a:prstGeom>
          <a:ln w="0">
            <a:noFill/>
          </a:ln>
        </p:spPr>
      </p:pic>
    </p:spTree>
  </p:cSld>
  <p:transition advTm="41000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МОРТАЛИТ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1907640" y="1033560"/>
            <a:ext cx="6928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Број умрлих по старости у Србији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 1953 i 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254A-68BE-4DF2-B70F-6E959EA374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1797120" y="2205000"/>
            <a:ext cx="6508800" cy="3168720"/>
          </a:xfrm>
          <a:prstGeom prst="rect">
            <a:avLst/>
          </a:prstGeom>
          <a:ln w="0">
            <a:noFill/>
          </a:ln>
        </p:spPr>
      </p:pic>
    </p:spTree>
  </p:cSld>
  <p:transition advTm="36000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637E-7935-4AFA-B1FC-E11A45A67B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47280" y="304920"/>
            <a:ext cx="7215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ПРИРОДНИ ПРИРАШТАЈ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714680" y="1214280"/>
            <a:ext cx="465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РОДНИ ПРИРАШТАЈ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ДСТАВЉ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АЗЛИКУ ИЗМЕЂУ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ТАЛИТЕТ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ЗИТИВН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РТАЛИТЕТ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ЕГАТИВНЕ КОМПОНЕНТ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ОПА ПРИРОДНОГ ПРИРАШТА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Object 3"/>
              <p:cNvSpPr txBox="1"/>
              <p:nvPr/>
            </p:nvSpPr>
            <p:spPr>
              <a:xfrm>
                <a:off x="6858000" y="2286000"/>
                <a:ext cx="1494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ct 6"/>
              <p:cNvSpPr txBox="1"/>
              <p:nvPr/>
            </p:nvSpPr>
            <p:spPr>
              <a:xfrm>
                <a:off x="5651640" y="3500280"/>
                <a:ext cx="32065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7" name="Rectangle 7"/>
          <p:cNvSpPr/>
          <p:nvPr/>
        </p:nvSpPr>
        <p:spPr>
          <a:xfrm>
            <a:off x="2124000" y="5289480"/>
            <a:ext cx="554508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опа природног прираштаја у Срби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9,1-14,2=- </a:t>
            </a:r>
            <a:r>
              <a:rPr b="1" lang="sr-Latn-CS" sz="2000" spc="-1" strike="noStrike">
                <a:solidFill>
                  <a:srgbClr val="258b7a"/>
                </a:solidFill>
                <a:latin typeface="Verdana"/>
              </a:rPr>
              <a:t>5,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7000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C6B5-7515-4AE5-96FC-42B61B615F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ИРОДНО КРЕТАЊЕ: ВИТАЛНИ ИНДЕКС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ИТАЛНИ ИНДЕКС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днос броја живорођених и умрл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АСПОН ИНДЕК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00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РЕГРЕСИВНО СТАНОВНИШ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СТАЦИОНАР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278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00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 ПРОГРЕСИВНО СТАНОВНИШ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440" indent="-3344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рбиј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2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одине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Verdana"/>
              </a:rPr>
              <a:t>i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sr-Latn-CS" sz="2000" spc="-1" strike="noStrike">
                <a:solidFill>
                  <a:srgbClr val="258b7a"/>
                </a:solidFill>
                <a:latin typeface="Verdana"/>
              </a:rPr>
              <a:t>63,7%</a:t>
            </a:r>
            <a:r>
              <a:rPr b="0" lang="en-US" sz="2000" spc="-1" strike="noStrike">
                <a:solidFill>
                  <a:srgbClr val="258b7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5"/>
              <p:cNvSpPr txBox="1"/>
              <p:nvPr/>
            </p:nvSpPr>
            <p:spPr>
              <a:xfrm>
                <a:off x="3857760" y="2143080"/>
                <a:ext cx="15732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 advTm="23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1692000" y="1413000"/>
            <a:ext cx="70707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6AA5-ADFA-4E8F-BE3E-FDF653C4FD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6769080" cy="360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628C-ABCF-427E-B807-AFCE556C5E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ПУЛАЦИОНА СТАТИСТИК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КАЗАТЕЉ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СЕЧАН БРОЈ СТАНОВН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КУПНИ АПСОЛУТНИ ПОРАСТ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СЕЧАН ГОДИШЊИ АПСОЛУТНИ ПОРАСТ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ЛАТИВНИ ПОРАСТ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ЕОГРАФСКА ДИСТРИБУЦИЈА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УСТИНА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1000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834920" y="148392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МЕХАНИЧКО КРЕТАЊЕ СТАНОВНИШТВА</a:t>
            </a:r>
            <a:br>
              <a:rPr sz="3200"/>
            </a:br>
            <a:br>
              <a:rPr sz="3200"/>
            </a:br>
            <a:r>
              <a:rPr b="1" lang="sr-RS" sz="2800" spc="-1" strike="noStrike">
                <a:solidFill>
                  <a:srgbClr val="000000"/>
                </a:solidFill>
                <a:latin typeface="Verdana"/>
              </a:rPr>
              <a:t>МИГРАЦИЈ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752480" y="34290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3000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953B-1C04-48E3-98DB-BDC4CBEAF5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МЕХАНИЧКО КРЕТАЊЕ: </a:t>
            </a: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ИГРАЦИЈЕ ПРЕДСТАВЉАЈ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ЛНА ИЛИ ПРИВРЕМЕНА ПРОМЕНА МЕСТА БОРАВКА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 ОДРЕЂЕНОМ ВРЕМЕНСКОМ ИНТЕРВАЛ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БЛЕМ ВРЕМЕНСКОГ ИНТЕРВ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ИГРАЦИЈА НЕ ОБУХВАТА ТУРИСТИЧКА, СЛУЖБЕНА И ПРИВАТНА ПУТОВ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73B8-DAF1-43A9-BED7-74B62FBB86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МЕХАНИЧКО КРЕТАЊЕ: </a:t>
            </a: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752480" y="1700280"/>
            <a:ext cx="70106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ДЕЛА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ТРАЈНЕ И ПРИВРЕМЕ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ЗОНСКЕ, ДНЕВНЕ И НЕДЕЉ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ПОЉНЕ И УНУТРАШЊ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9026-D12D-4BD1-9EC6-0FE1CD69FC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СПОЉН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ПОЉНЕ МИГРАЦИЈЕ ПРЕДСТАВЉАЈ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КРЕТЉИВОСТ СТАНОВНИШТВА ПРЕКО ДРЖАВНИХ ГРАН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ЕМИГРАЦИЈА (ИСЕЉАВАЊЕ) ВС. ИМИГРАЦИЈА (ДОСЕЉАВАЊ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ДМЕТ ПОСМАТР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ЕМИГРАН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МИГРАН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E8D1-82F0-4C48-9EE5-6B42539551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СПОЉН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ПОЉНЕ МИГР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ЕКОНОМСКЕ (ДОБРОВОЉН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СИЛНЕ (ПРИНУДН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ЛИТИЧКИ МОТИ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РСТЕ СПОЉНИХ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Л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0-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ОДИН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20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Е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K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ПАНЗ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ВРЕМЕ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ЗОН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 ПОГРАНИЧНИМ РЕЈОН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ЧЕСТО ПРЕРАСТАЈУ У СТАЛ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E20B-1C2F-4F5A-8289-E5D2C6710E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СПОЉН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ЗВОРИ ПОДАТАКА ЗА СПОЉНЕ МИГР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ГИСТРИ СТАНОВНИШ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АСОШКЕ ЕВИДЕН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ОНТРОЛЕ ПУТНИКА НА ГРАНИЦИ, У ЛУКАМА И НА АЕРОДРОМ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95D3-F7E9-47B2-BB1B-8907818FAE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УНУТРАШ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НУТРАШЊЕ МИГРАЦИЈЕ ПРЕДСТАВЉАЈ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МЕНУ БРОЈА СТАНОВНИШТВА УНУТАР ГРАНИЦА ДРЖАВ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ДИСТРИБУЦИЈУ СТАНОВНИШТВА НА ТЕРИТОРИЈИ ЈЕДНЕ ЗЕМЉ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ОТИВИ УНУТРАШЊИХ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БЈЕКТИВ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УБЈЕКТИВ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0F08-5967-487A-9221-F6DD98651D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УНУТРАШ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РСТЕ УНУТРАШЊИХ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МА МОТИВ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ДОБРОВОЉНЕ И ПРИНУД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РГАНИЗОВАНЕ И СТИХИЈСКЕ (СПОНТАН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МА ДАЉИ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ЛОКАЛ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ЕЈОН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ЕЂУРЕЈОН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6825-5484-4779-80D9-8476797C36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УНУТРАШ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РСТЕ УНУТРАШЊИХ МИГР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МА ПОДЕЛИ СЕЛО-ГРА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ЕЂУСЕО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ЕЂУГРАД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ЛО-ГРА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ГРАД-СЕЛ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ЕМА ТРАЈАЊ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Л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ЗОНС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ДНЕВН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5910-8DCA-410E-80F9-F719A69B82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en-US" sz="2000" spc="-1" strike="noStrike">
                <a:solidFill>
                  <a:srgbClr val="258b7a"/>
                </a:solidFill>
                <a:latin typeface="Verdana"/>
              </a:rPr>
              <a:t>M</a:t>
            </a: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ИГРАЦИЈЕ: УНУТРАШЊ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БЛЕМ СТАТИСТИЧКОГ ОБУХВАТА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РБИЈА НЕМА ОРГАНИЗОВАНУ СТАТИСТИКУ УНУТРАШЊЕ МИГР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ПУЛАЦИОНА СТАТИСТИК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1752120" y="1523880"/>
            <a:ext cx="7140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ановништво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 регионима</a:t>
            </a:r>
            <a:r>
              <a:rPr b="0" lang="sr-Latn-RS" sz="1800" spc="-1" strike="noStrike">
                <a:solidFill>
                  <a:srgbClr val="000000"/>
                </a:solidFill>
                <a:latin typeface="Verdana"/>
              </a:rPr>
              <a:t> 2002. i 20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C854-BACA-439B-B2CC-3813CA931D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1" name="Picture 6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6831360" cy="2736720"/>
          </a:xfrm>
          <a:prstGeom prst="rect">
            <a:avLst/>
          </a:prstGeom>
          <a:ln w="0">
            <a:noFill/>
          </a:ln>
        </p:spPr>
      </p:pic>
    </p:spTree>
  </p:cSld>
  <p:transition advTm="46000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37C3-C151-48FB-9E67-73F5447501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СТАТИСТИКА КРЕТАЊ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КОМПОНЕНТЕ ПОРАСТА СТАНОВНИШ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ОМПОНЕНТЕ ПОРАСТА СТАНОВНИШТВА СУ У ФУНКЦИЈИ КРЕТАЊА ПРИРОДНИХ И МЕХАНИЧКИХ КОМПОНЕН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ТАЛИТЕТ И МОРТАЛИТ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34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МИГРАЦИЈЕ И ЕМИГР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2" descr="http://lawafterthebar.files.wordpress.com/2011/01/thank-you.jpg"/>
          <p:cNvPicPr/>
          <p:nvPr/>
        </p:nvPicPr>
        <p:blipFill>
          <a:blip r:embed="rId1"/>
          <a:stretch/>
        </p:blipFill>
        <p:spPr>
          <a:xfrm>
            <a:off x="-1440" y="0"/>
            <a:ext cx="91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ОПУЛАЦИОНА СТАТИСТИК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етање броја становника у пописним годинама Србија, 1971-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20CD-409D-48C8-9034-2303C4834D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6256440" cy="316872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Пројекције кретања становништва Србије у наредних 20 годи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2B00-74B4-45D8-91FE-6B4F2DD508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9" name="Picture 2" descr=""/>
          <p:cNvPicPr/>
          <p:nvPr/>
        </p:nvPicPr>
        <p:blipFill>
          <a:blip r:embed="rId1"/>
          <a:stretch/>
        </p:blipFill>
        <p:spPr>
          <a:xfrm>
            <a:off x="2273400" y="2048040"/>
            <a:ext cx="6208560" cy="3738240"/>
          </a:xfrm>
          <a:prstGeom prst="rect">
            <a:avLst/>
          </a:prstGeom>
          <a:ln w="0">
            <a:noFill/>
          </a:ln>
        </p:spPr>
      </p:pic>
      <p:sp>
        <p:nvSpPr>
          <p:cNvPr id="730" name="TextBox 5"/>
          <p:cNvSpPr/>
          <p:nvPr/>
        </p:nvSpPr>
        <p:spPr>
          <a:xfrm>
            <a:off x="5500800" y="6215040"/>
            <a:ext cx="207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Izvor: RZ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ГЕОГРАФСКА СТРУКТУРА СТАНОВНИШТВА</a:t>
            </a:r>
            <a:br>
              <a:rPr sz="2000"/>
            </a:br>
            <a:r>
              <a:rPr b="1" lang="sr-RS" sz="2000" spc="-1" strike="noStrike">
                <a:solidFill>
                  <a:srgbClr val="258b7a"/>
                </a:solidFill>
                <a:latin typeface="Verdana"/>
              </a:rPr>
              <a:t>ГУСТИНА НАСЕЉЕНОСТ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1699920" y="14731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3400" indent="-2934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Verdana"/>
              </a:rPr>
              <a:t>У градским насељима живи преко 500 становника на1 км2, док је у осталим насељима мање од 50 становника на 1 км2.</a:t>
            </a:r>
            <a:br>
              <a:rPr sz="1400"/>
            </a:br>
            <a:br>
              <a:rPr sz="1400"/>
            </a:br>
            <a:r>
              <a:rPr b="0" lang="sr-RS" sz="1400" spc="-1" strike="noStrike">
                <a:solidFill>
                  <a:srgbClr val="000000"/>
                </a:solidFill>
                <a:latin typeface="Verdana"/>
              </a:rPr>
              <a:t>Просечна густина насељености у Републици Србији износи 92,6 становника по квадратном километру, међутим, унутар регионални размештај становништва је веома неравномеран.</a:t>
            </a:r>
            <a:br>
              <a:rPr sz="1400"/>
            </a:br>
            <a:br>
              <a:rPr sz="1400"/>
            </a:br>
            <a:r>
              <a:rPr b="0" lang="sr-RS" sz="1400" spc="-1" strike="noStrike">
                <a:solidFill>
                  <a:srgbClr val="000000"/>
                </a:solidFill>
                <a:latin typeface="Verdana"/>
              </a:rPr>
              <a:t>Са највећом густином насељености издваја се Београдски регион, који јеса 513 становника на 1 км2 више од пет пута гушће насељен од осталих региона, док је најређе насељен Регион Јужне и</a:t>
            </a:r>
            <a:br>
              <a:rPr sz="1400"/>
            </a:br>
            <a:r>
              <a:rPr b="0" lang="sr-RS" sz="1400" spc="-1" strike="noStrike">
                <a:solidFill>
                  <a:srgbClr val="000000"/>
                </a:solidFill>
                <a:latin typeface="Verdana"/>
              </a:rPr>
              <a:t>Источне Србије, са 60 становника на 1 км2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36AF-7DB5-41F6-8BBE-EC7AD0E35E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4" name="Picture 2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5010120" cy="2514600"/>
          </a:xfrm>
          <a:prstGeom prst="rect">
            <a:avLst/>
          </a:prstGeom>
          <a:ln w="0">
            <a:noFill/>
          </a:ln>
        </p:spPr>
      </p:pic>
    </p:spTree>
  </p:cSld>
  <p:transition advTm="2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2:22:35Z</dcterms:created>
  <dc:creator>Ceca</dc:creator>
  <dc:description/>
  <dc:language>en-US</dc:language>
  <cp:lastModifiedBy>Majda</cp:lastModifiedBy>
  <dcterms:modified xsi:type="dcterms:W3CDTF">2020-09-20T10:49:51Z</dcterms:modified>
  <cp:revision>440</cp:revision>
  <dc:subject/>
  <dc:title>STATISTIKA STANOVNIŠTVA</dc:title>
</cp:coreProperties>
</file>